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44D-FD29-4359-B8D6-39C60BCC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F5B-48B1-48B9-B959-1CDD4D0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860-3AF0-49E8-892C-95FE595A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213-6DF7-4952-85CC-B7CBF8D1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8E4-EDFA-4F30-BFB6-D494881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389-48EB-4452-AFC5-2790C01F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239-1826-4686-9F14-2E4184EA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0B5-7F2B-44B9-988A-7BB72D96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489-D39E-4FA4-A408-2AAF5D54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269-64F6-4B4A-8844-ACAF143B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297-76D7-4E22-B8E5-30BD170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2A5-903A-4465-BB1A-C4C242E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58E5-AFB4-4A55-8C9E-DD16BF18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140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eehuggerusa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globalwarming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how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ture.org.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ustainability.publicradio.o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5:31:11Z</dcterms:created>
  <dc:creator>ws13150</dc:creator>
  <dc:description/>
  <dc:language>en-US</dc:language>
  <cp:lastModifiedBy>ws13150</cp:lastModifiedBy>
  <dcterms:modified xsi:type="dcterms:W3CDTF">2010-05-19T15:36:08Z</dcterms:modified>
  <cp:revision>2</cp:revision>
  <dc:subject/>
  <dc:title>Slide 1</dc:title>
</cp:coreProperties>
</file>